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F4C-0362-40BB-BC21-69908D08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FB8-F4D5-4E1F-AC53-72BB6F18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11C82-266B-49FA-B41D-674298CE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0D662-22BA-41AC-AF89-91B32E65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A1EE1-606C-4662-9C56-674015AA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130F4-7CA5-4702-BE27-A50EBD35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BC5C7-9FAD-4C9C-867D-1261C37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97677-09E2-473F-BE15-A51E0F46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11AA-212E-409C-A198-1BE19570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861CA-C11D-476E-93A3-5B6B2F5D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F9789-F973-4C52-AF1C-56B5BCB4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2E36B-52C1-41F0-826E-BF894CAC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C6E-9B00-4A01-8B0D-7BF1877D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FB8FE-C25E-4C2A-9A11-A41219CC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447B7-352F-4558-A2E0-004E5E75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19C48-B5B6-484A-A116-BA390D20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AFADD-8711-4FBC-B73E-4E085B1E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BC62F-4CDE-4CA5-928E-2325FBA3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20D6-9B5C-4948-A3CF-2C01927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DBB7D-2F5A-4ED6-8A01-242E48A5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27AF7-558B-4993-A67E-9EEBC09C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538B-3A91-4D1A-BD3D-B7800E7F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F2F18-FCB0-4A73-A9B2-58DEB230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5FB-BFE8-409C-AC8E-8DD8A115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3DB5-2A6C-430A-9C87-E2986B5C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8F97A-F907-4CA3-9885-FD26E622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BA129-E479-439C-AAED-8B3C9AC5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18345-3F6F-422E-9F8D-A4504CBC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93E31-6F32-46F5-8DB0-FB96D294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F8EFF-0364-4DAF-B661-999719AA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C73D-3A19-453D-B36F-CBF9CE88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B4994-E233-4DB1-AD57-105A3E1D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7795-1034-4710-A41B-384BFE55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DA8DB-45F6-41A7-9B81-E05F0CAC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C4911-1365-4E52-AADB-103BCF1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BF0AC-19BD-4FCA-8B65-665BA4BE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AEF39-4F64-47FB-B64A-452C0224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1DE69-AE06-42EF-BA85-0B5C0048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3C965-D7DB-4196-B65F-BF3A2DE6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B08BF-7263-4826-BD13-B32F1130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B31CA-BD2D-463F-B3D9-F817ED26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C5D4D-2C84-496B-9638-0E59E1E7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45100-F32A-47E8-85BF-ECAA38D4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A62AF-1688-4FE9-B17D-130CC887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C23F5-7186-4C0F-AC89-FAAD0DE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9D1FF-61EC-481F-B702-F7724EF6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9B944-18C8-4758-97A2-C578B992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14622-958D-43A7-A371-39881E71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160BD-9BBF-4426-A082-37F97A0F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9C719-CCC0-420D-AAD2-33C9D74F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1A9A3-E161-422D-9987-C58B13ED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7BB35-B654-464E-8676-402952EB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5A11E-E6D6-4892-B68A-5182D0B6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D2C06-6384-4CE7-BEFA-54B2E444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B23B7-FD20-45FF-916B-4C32C27B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CE67A-4F73-46DA-AF08-1C3C84C2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35F7D-F84D-48DC-9454-97074E16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C54ED-4DDD-4BF2-B5C3-525879A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E8686-4297-430B-B4AA-0695A4EA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E7DDE-EB6A-4C2D-AF45-00DC0D3B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962D0-C20C-4A6C-9330-B999BDCB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DD71A-B121-459A-B91F-6BA82FC1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E9A31-1717-4EB1-BD7C-E4F53E18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1D552-53F7-4766-9D8A-973ECBDC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9D877-B525-4271-B2BF-F0EE5085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07A28-55A2-422D-B26D-F79CB204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E484F-173A-4186-8328-E56D53BE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2727E-B9FB-46CE-8496-E7910D0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58821-4C8E-45C3-AC62-FE1C1EE8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9BD45-0B2D-4E15-AB1A-E9F0136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3C929-8622-476A-89C2-DDC04886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977D0-4FBE-4B18-B89B-A79537EA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6982B-1557-4AE8-BA4F-E903A968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992-111C-471F-A54C-85D241AA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2DB0-C84D-4FB4-85DD-EF59E2E0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101-CC7C-4E5E-87D9-94A8D717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1D41-91AB-48DB-A349-D31E9116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8FE4-7AEA-4971-890D-30BE18C3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B21D-6B83-4565-B246-ED10A313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F43-6AC2-4EFC-9B34-3F0C1CD3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A1DA-43B5-4C44-AC84-4CCC3305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074F-CF8A-4799-8CF1-96C74E9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261D-BBBD-44FC-87ED-2CC52E0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333E-94DF-4144-8845-B076C02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7615-F98F-463D-BDCC-62B3F9BE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0AD5-65E6-42EB-97B3-5A6670DE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667D-FFEE-449A-9BE0-21F9FC0A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479-3462-4182-A2B9-F651311C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4A8-D072-4763-8EB4-E73FB80F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BB1-07AE-4D4C-A0B8-C7605CFB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BC94-EE2C-4566-88F1-587E04DB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4D6B-CBFE-4556-83BD-7DB267EC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EBE8-A886-4C28-A760-BEC52E0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CF2B-FAE0-41DE-BEBD-CBAB76FB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12AA-93B1-46CE-B8FD-9F5D4020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A11B-193D-414F-B1D4-489D1D7E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F64E-8165-475A-AADC-5BB0C0BC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41638-05CE-45DB-81D7-3A499A2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47ED-71D7-44B4-9E43-D6FD6CC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170-DBE2-4CD5-B1F6-B6BE75C0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3AEE-2DBE-4FF3-B71A-A68003F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DD0F-5831-461B-AB23-8ED80A4F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F9AD-F1A1-4E66-96D6-56BD6416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D0E4-86F5-45E4-AAD3-3FFAA8C1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E7DF9-4E1A-4CB8-A4EB-FD1A4644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23B37-1624-4DBA-8DAF-E6E087EB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5B94-706B-4AAC-A998-B16D939B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0B186-3353-4C6F-B772-C5B19B1C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E845-64A7-4E06-B0EB-6B38851A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78DC-E50F-4E12-9426-54386219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9F6-C1B2-40D4-B915-E4BBC35B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5BC6-E3E9-4F39-A506-3BC946D1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B910B-EF3B-4C4A-98D3-B72061C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DAAB-B2F4-4AE9-BFE1-41E66E93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A3A0E-3728-444C-8E46-1E925320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2A34-4BE1-40C2-9969-640DAAC7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50665-FAFD-4245-A0A4-81BA193E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F9F9A-A661-4D25-A1C8-1FDB9288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F685E-2F92-423F-AFAE-503D8C4F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46E64-4F26-498D-80E1-5F31AC73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D8EB7-53CC-441E-B9AB-14FF0855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2F9-38E7-443C-B2B4-E4FEF87F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3C1C9-56FA-4DAF-86A6-11978BEE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9CB2-EA68-4CAF-AE57-61F3AB23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23C07-46E9-42E5-BA9C-F08A830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4ED23-6549-47E2-A895-C37770C6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1D539-DD89-4F6B-B22A-B6EEB680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431E8-F8FD-4B6A-BA5B-ACA57E8F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28E74-C66A-4F61-92B6-41C288AD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0B046-646D-400A-A761-F360F0E5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52CBC-5009-4A87-A56F-FE9E52F9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536C5-6EAF-4778-9893-A5E94B60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F5938-D91E-4FD6-B7B6-EE548ACB2E2B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FB218-5A2E-42A1-9A5D-F134B9F78410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7111F-1039-4B36-9AD5-F90DE3C8F06C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6DB5F-8281-4FDE-B3D0-E9384BE01BB5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33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D565A-BA1C-477F-8F34-AAC3F5B8122E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AC92C-BE4E-4C78-9089-965DF7469ED5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35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B291A-E5FA-4D6D-A386-D75CEED75381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90F29-E452-4605-B3B6-C6C09790BC32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7FD90-4C7C-4991-9D47-A2958B823829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C498D-A134-4B5F-816B-14953D900B53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custGeom>
            <a:avLst/>
            <a:gdLst/>
            <a:ahLst/>
            <a:rect l="l" t="t" r="r" b="b"/>
            <a:pathLst>
              <a:path w="1535113" h="6400800">
                <a:moveTo>
                  <a:pt x="767557" y="0"/>
                </a:moveTo>
                <a:lnTo>
                  <a:pt x="767557" y="0"/>
                </a:lnTo>
                <a:cubicBezTo>
                  <a:pt x="1191467" y="0"/>
                  <a:pt x="1535114" y="343647"/>
                  <a:pt x="1535114" y="767557"/>
                </a:cubicBezTo>
                <a:cubicBezTo>
                  <a:pt x="1535114" y="2645305"/>
                  <a:pt x="1535113" y="4523052"/>
                  <a:pt x="1535113" y="6400800"/>
                </a:cubicBezTo>
                <a:lnTo>
                  <a:pt x="1535113" y="6400800"/>
                </a:lnTo>
                <a:lnTo>
                  <a:pt x="0" y="6400800"/>
                </a:lnTo>
                <a:lnTo>
                  <a:pt x="0" y="6400800"/>
                </a:lnTo>
                <a:lnTo>
                  <a:pt x="0" y="767557"/>
                </a:lnTo>
                <a:cubicBezTo>
                  <a:pt x="0" y="343647"/>
                  <a:pt x="343647" y="0"/>
                  <a:pt x="767557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21B56-A93A-46D8-82C0-5026A51A0ADC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FF790-9AA5-4718-A65E-1C4B4FBEC10F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2"/>
          <p:cNvGrpSpPr/>
          <p:nvPr/>
        </p:nvGrpSpPr>
        <p:grpSpPr>
          <a:xfrm>
            <a:off x="-360" y="1577880"/>
            <a:ext cx="9472320" cy="4641120"/>
            <a:chOff x="-360" y="1577880"/>
            <a:chExt cx="9472320" cy="464112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2040"/>
              <a:ext cx="2065680" cy="9264600"/>
            </a:xfrm>
            <a:custGeom>
              <a:avLst/>
              <a:gdLst/>
              <a:ahLst/>
              <a:rect l="l" t="t" r="r" b="b"/>
              <a:pathLst>
                <a:path w="2209695" h="9154402">
                  <a:moveTo>
                    <a:pt x="67397" y="8829966"/>
                  </a:moveTo>
                  <a:lnTo>
                    <a:pt x="0" y="1104848"/>
                  </a:lnTo>
                  <a:cubicBezTo>
                    <a:pt x="0" y="811824"/>
                    <a:pt x="116404" y="530802"/>
                    <a:pt x="323604" y="323603"/>
                  </a:cubicBezTo>
                  <a:cubicBezTo>
                    <a:pt x="530804" y="116404"/>
                    <a:pt x="811826" y="1"/>
                    <a:pt x="1104850" y="2"/>
                  </a:cubicBezTo>
                  <a:lnTo>
                    <a:pt x="1104848" y="0"/>
                  </a:lnTo>
                  <a:lnTo>
                    <a:pt x="1104848" y="0"/>
                  </a:lnTo>
                  <a:cubicBezTo>
                    <a:pt x="1397872" y="0"/>
                    <a:pt x="1678894" y="116404"/>
                    <a:pt x="1886093" y="323604"/>
                  </a:cubicBezTo>
                  <a:cubicBezTo>
                    <a:pt x="2093292" y="530804"/>
                    <a:pt x="2209695" y="811826"/>
                    <a:pt x="2209694" y="1104850"/>
                  </a:cubicBezTo>
                  <a:cubicBezTo>
                    <a:pt x="2209694" y="3788034"/>
                    <a:pt x="2209695" y="6471218"/>
                    <a:pt x="2209695" y="9154402"/>
                  </a:cubicBezTo>
                  <a:lnTo>
                    <a:pt x="2209695" y="9154402"/>
                  </a:lnTo>
                </a:path>
              </a:pathLst>
            </a:cu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240"/>
              <a:ext cx="1041480" cy="7135920"/>
            </a:xfrm>
            <a:custGeom>
              <a:avLst/>
              <a:gdLst/>
              <a:ahLst/>
              <a:rect l="l" t="t" r="r" b="b"/>
              <a:pathLst>
                <a:path w="1040884" h="7134813">
                  <a:moveTo>
                    <a:pt x="0" y="6971904"/>
                  </a:moveTo>
                  <a:lnTo>
                    <a:pt x="0" y="6971904"/>
                  </a:lnTo>
                  <a:lnTo>
                    <a:pt x="0" y="6971904"/>
                  </a:lnTo>
                  <a:lnTo>
                    <a:pt x="0" y="498324"/>
                  </a:lnTo>
                  <a:cubicBezTo>
                    <a:pt x="0" y="366160"/>
                    <a:pt x="52502" y="239410"/>
                    <a:pt x="145956" y="145956"/>
                  </a:cubicBezTo>
                  <a:cubicBezTo>
                    <a:pt x="239410" y="52502"/>
                    <a:pt x="366161" y="1"/>
                    <a:pt x="498325" y="1"/>
                  </a:cubicBezTo>
                  <a:lnTo>
                    <a:pt x="498324" y="0"/>
                  </a:lnTo>
                  <a:lnTo>
                    <a:pt x="498324" y="0"/>
                  </a:lnTo>
                  <a:cubicBezTo>
                    <a:pt x="630488" y="0"/>
                    <a:pt x="757238" y="52502"/>
                    <a:pt x="850692" y="145956"/>
                  </a:cubicBezTo>
                  <a:cubicBezTo>
                    <a:pt x="944146" y="239410"/>
                    <a:pt x="996647" y="366161"/>
                    <a:pt x="996647" y="498325"/>
                  </a:cubicBezTo>
                  <a:cubicBezTo>
                    <a:pt x="1030126" y="1663149"/>
                    <a:pt x="1037566" y="5867764"/>
                    <a:pt x="1040884" y="7134813"/>
                  </a:cubicBezTo>
                </a:path>
              </a:pathLst>
            </a:cu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1680" cy="529740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5534" y="6164375"/>
                  </a:lnTo>
                  <a:cubicBezTo>
                    <a:pt x="3689" y="4261983"/>
                    <a:pt x="1845" y="2359592"/>
                    <a:pt x="0" y="457200"/>
                  </a:cubicBez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720" cy="632160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0" y="6172200"/>
                  </a:lnTo>
                  <a:lnTo>
                    <a:pt x="0" y="457200"/>
                  </a:ln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4320" y="-279360"/>
              <a:ext cx="552240" cy="5105520"/>
            </a:xfrm>
            <a:custGeom>
              <a:avLst/>
              <a:gdLst/>
              <a:ahLst/>
              <a:rect l="l" t="t" r="r" b="b"/>
              <a:pathLst>
                <a:path w="552099" h="5109912">
                  <a:moveTo>
                    <a:pt x="0" y="5016061"/>
                  </a:moveTo>
                  <a:lnTo>
                    <a:pt x="0" y="5016061"/>
                  </a:lnTo>
                  <a:lnTo>
                    <a:pt x="0" y="251460"/>
                  </a:ln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36054" y="5039297"/>
                    <a:pt x="552099" y="5109912"/>
                  </a:cubicBezTo>
                </a:path>
              </a:pathLst>
            </a:cu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200" y="1177920"/>
              <a:ext cx="536400" cy="2935080"/>
            </a:xfrm>
            <a:custGeom>
              <a:avLst/>
              <a:gdLst/>
              <a:ahLst/>
              <a:rect l="l" t="t" r="r" b="b"/>
              <a:pathLst>
                <a:path w="536285" h="2938929">
                  <a:moveTo>
                    <a:pt x="6777" y="2849391"/>
                  </a:moveTo>
                  <a:cubicBezTo>
                    <a:pt x="6668" y="1978928"/>
                    <a:pt x="109" y="1121923"/>
                    <a:pt x="0" y="251460"/>
                  </a:cubicBez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17682" y="905440"/>
                    <a:pt x="536285" y="2938929"/>
                  </a:cubicBezTo>
                </a:path>
              </a:pathLst>
            </a:custGeom>
            <a:solidFill>
              <a:srgbClr val="073779"/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custGeom>
            <a:avLst/>
            <a:gdLst/>
            <a:ahLst/>
            <a:rect l="l" t="t" r="r" b="b"/>
            <a:pathLst>
              <a:path w="981537" h="6338829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89058" y="4544471"/>
                  <a:pt x="981537" y="6338829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9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960" y="-765000"/>
              <a:ext cx="3505320" cy="1520640"/>
            </a:xfrm>
            <a:custGeom>
              <a:avLst/>
              <a:gdLst/>
              <a:ahLst/>
              <a:rect l="l" t="t" r="r" b="b"/>
              <a:pathLst>
                <a:path w="3504811" h="1520823">
                  <a:moveTo>
                    <a:pt x="3504605" y="772070"/>
                  </a:moveTo>
                  <a:cubicBezTo>
                    <a:pt x="3489910" y="1187902"/>
                    <a:pt x="2708082" y="1521472"/>
                    <a:pt x="1749667" y="1520822"/>
                  </a:cubicBezTo>
                  <a:cubicBezTo>
                    <a:pt x="782047" y="1520166"/>
                    <a:pt x="-1220" y="1179326"/>
                    <a:pt x="0" y="759452"/>
                  </a:cubicBezTo>
                  <a:lnTo>
                    <a:pt x="1752406" y="760412"/>
                  </a:lnTo>
                  <a:lnTo>
                    <a:pt x="3504605" y="772070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7560" y="-17748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  <a:lnTo>
                    <a:pt x="566675" y="415925"/>
                  </a:lnTo>
                  <a:lnTo>
                    <a:pt x="4015" y="366498"/>
                  </a:lnTo>
                  <a:close/>
                </a:path>
                <a:path fill="none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0958" h="381000">
                  <a:moveTo>
                    <a:pt x="380958" y="190416"/>
                  </a:moveTo>
                  <a:cubicBezTo>
                    <a:pt x="381004" y="293854"/>
                    <a:pt x="298508" y="378428"/>
                    <a:pt x="195112" y="380944"/>
                  </a:cubicBezTo>
                  <a:cubicBezTo>
                    <a:pt x="91715" y="383460"/>
                    <a:pt x="5204" y="302997"/>
                    <a:pt x="221" y="199679"/>
                  </a:cubicBezTo>
                  <a:lnTo>
                    <a:pt x="190479" y="190500"/>
                  </a:lnTo>
                  <a:lnTo>
                    <a:pt x="380958" y="190416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600" cy="1671480"/>
            </a:xfrm>
            <a:custGeom>
              <a:avLst/>
              <a:gdLst/>
              <a:ahLst/>
              <a:rect l="l" t="t" r="r" b="b"/>
              <a:pathLst>
                <a:path stroke="0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  <a:lnTo>
                    <a:pt x="726281" y="835726"/>
                  </a:lnTo>
                  <a:lnTo>
                    <a:pt x="492890" y="44327"/>
                  </a:lnTo>
                  <a:close/>
                </a:path>
                <a:path fill="none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520" y="-1039680"/>
              <a:ext cx="1906560" cy="2046240"/>
            </a:xfrm>
            <a:custGeom>
              <a:avLst/>
              <a:gdLst/>
              <a:ahLst/>
              <a:rect l="l" t="t" r="r" b="b"/>
              <a:pathLst>
                <a:path stroke="0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  <a:lnTo>
                    <a:pt x="953293" y="1023030"/>
                  </a:lnTo>
                  <a:lnTo>
                    <a:pt x="673803" y="44956"/>
                  </a:lnTo>
                  <a:close/>
                </a:path>
                <a:path fill="none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71DBC-A0DE-4578-8F29-4176E7EEB022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29FC3-012A-4734-853B-CD677839279E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custGeom>
            <a:avLst/>
            <a:gdLst/>
            <a:ahLst/>
            <a:rect l="l" t="t" r="r" b="b"/>
            <a:pathLst>
              <a:path w="1040884" h="7134813">
                <a:moveTo>
                  <a:pt x="0" y="6971904"/>
                </a:moveTo>
                <a:lnTo>
                  <a:pt x="0" y="6971904"/>
                </a:lnTo>
                <a:lnTo>
                  <a:pt x="0" y="6971904"/>
                </a:lnTo>
                <a:lnTo>
                  <a:pt x="0" y="498324"/>
                </a:lnTo>
                <a:cubicBezTo>
                  <a:pt x="0" y="366160"/>
                  <a:pt x="52502" y="239410"/>
                  <a:pt x="145956" y="145956"/>
                </a:cubicBezTo>
                <a:cubicBezTo>
                  <a:pt x="239410" y="52502"/>
                  <a:pt x="366161" y="1"/>
                  <a:pt x="498325" y="1"/>
                </a:cubicBezTo>
                <a:lnTo>
                  <a:pt x="498324" y="0"/>
                </a:lnTo>
                <a:lnTo>
                  <a:pt x="498324" y="0"/>
                </a:lnTo>
                <a:cubicBezTo>
                  <a:pt x="630488" y="0"/>
                  <a:pt x="757238" y="52502"/>
                  <a:pt x="850692" y="145956"/>
                </a:cubicBezTo>
                <a:cubicBezTo>
                  <a:pt x="944146" y="239410"/>
                  <a:pt x="996647" y="366161"/>
                  <a:pt x="996647" y="498325"/>
                </a:cubicBezTo>
                <a:cubicBezTo>
                  <a:pt x="1030126" y="1663149"/>
                  <a:pt x="1037566" y="5867764"/>
                  <a:pt x="1040884" y="7134813"/>
                </a:cubicBezTo>
              </a:path>
            </a:pathLst>
          </a:cu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26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960" y="-765000"/>
              <a:ext cx="3505320" cy="1520640"/>
            </a:xfrm>
            <a:custGeom>
              <a:avLst/>
              <a:gdLst/>
              <a:ahLst/>
              <a:rect l="l" t="t" r="r" b="b"/>
              <a:pathLst>
                <a:path w="3504811" h="1520823">
                  <a:moveTo>
                    <a:pt x="3504605" y="772070"/>
                  </a:moveTo>
                  <a:cubicBezTo>
                    <a:pt x="3489910" y="1187902"/>
                    <a:pt x="2708082" y="1521472"/>
                    <a:pt x="1749667" y="1520822"/>
                  </a:cubicBezTo>
                  <a:cubicBezTo>
                    <a:pt x="782047" y="1520166"/>
                    <a:pt x="-1220" y="1179326"/>
                    <a:pt x="0" y="759452"/>
                  </a:cubicBezTo>
                  <a:lnTo>
                    <a:pt x="1752406" y="760412"/>
                  </a:lnTo>
                  <a:lnTo>
                    <a:pt x="3504605" y="772070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7560" y="-17748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  <a:lnTo>
                    <a:pt x="566675" y="415925"/>
                  </a:lnTo>
                  <a:lnTo>
                    <a:pt x="4015" y="366498"/>
                  </a:lnTo>
                  <a:close/>
                </a:path>
                <a:path fill="none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0958" h="381000">
                  <a:moveTo>
                    <a:pt x="380958" y="190416"/>
                  </a:moveTo>
                  <a:cubicBezTo>
                    <a:pt x="381004" y="293854"/>
                    <a:pt x="298508" y="378428"/>
                    <a:pt x="195112" y="380944"/>
                  </a:cubicBezTo>
                  <a:cubicBezTo>
                    <a:pt x="91715" y="383460"/>
                    <a:pt x="5204" y="302997"/>
                    <a:pt x="221" y="199679"/>
                  </a:cubicBezTo>
                  <a:lnTo>
                    <a:pt x="190479" y="190500"/>
                  </a:lnTo>
                  <a:lnTo>
                    <a:pt x="380958" y="190416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600" cy="1671480"/>
            </a:xfrm>
            <a:custGeom>
              <a:avLst/>
              <a:gdLst/>
              <a:ahLst/>
              <a:rect l="l" t="t" r="r" b="b"/>
              <a:pathLst>
                <a:path stroke="0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  <a:lnTo>
                    <a:pt x="726281" y="835726"/>
                  </a:lnTo>
                  <a:lnTo>
                    <a:pt x="492890" y="44327"/>
                  </a:lnTo>
                  <a:close/>
                </a:path>
                <a:path fill="none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520" y="-1039680"/>
              <a:ext cx="1906560" cy="2046240"/>
            </a:xfrm>
            <a:custGeom>
              <a:avLst/>
              <a:gdLst/>
              <a:ahLst/>
              <a:rect l="l" t="t" r="r" b="b"/>
              <a:pathLst>
                <a:path stroke="0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  <a:lnTo>
                    <a:pt x="953293" y="1023030"/>
                  </a:lnTo>
                  <a:lnTo>
                    <a:pt x="673803" y="44956"/>
                  </a:lnTo>
                  <a:close/>
                </a:path>
                <a:path fill="none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70836" y="8848823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custGeom>
            <a:avLst/>
            <a:gdLst/>
            <a:ahLst/>
            <a:rect l="l" t="t" r="r" b="b"/>
            <a:pathLst>
              <a:path w="552099" h="5109912">
                <a:moveTo>
                  <a:pt x="0" y="5016061"/>
                </a:moveTo>
                <a:lnTo>
                  <a:pt x="0" y="5016061"/>
                </a:lnTo>
                <a:lnTo>
                  <a:pt x="0" y="251460"/>
                </a:ln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36054" y="5039297"/>
                  <a:pt x="552099" y="5109912"/>
                </a:cubicBezTo>
              </a:path>
            </a:pathLst>
          </a:cu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custGeom>
            <a:avLst/>
            <a:gdLst/>
            <a:ahLst/>
            <a:rect l="l" t="t" r="r" b="b"/>
            <a:pathLst>
              <a:path w="528237" h="2951509">
                <a:moveTo>
                  <a:pt x="328" y="2862849"/>
                </a:moveTo>
                <a:cubicBezTo>
                  <a:pt x="219" y="1992386"/>
                  <a:pt x="109" y="1121923"/>
                  <a:pt x="0" y="251460"/>
                </a:cubicBez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05702" y="918020"/>
                  <a:pt x="524305" y="2951509"/>
                </a:cubicBezTo>
              </a:path>
            </a:pathLst>
          </a:custGeom>
          <a:solidFill>
            <a:srgbClr val="073779"/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custGeom>
            <a:avLst/>
            <a:gdLst/>
            <a:ahLst/>
            <a:rect l="l" t="t" r="r" b="b"/>
            <a:pathLst>
              <a:path w="1100209" h="8104720">
                <a:moveTo>
                  <a:pt x="533400" y="0"/>
                </a:moveTo>
                <a:lnTo>
                  <a:pt x="533400" y="0"/>
                </a:lnTo>
                <a:cubicBezTo>
                  <a:pt x="674867" y="0"/>
                  <a:pt x="810539" y="56198"/>
                  <a:pt x="910571" y="156230"/>
                </a:cubicBezTo>
                <a:cubicBezTo>
                  <a:pt x="1010603" y="256262"/>
                  <a:pt x="1055019" y="390601"/>
                  <a:pt x="1066800" y="533401"/>
                </a:cubicBezTo>
                <a:cubicBezTo>
                  <a:pt x="1066437" y="2679490"/>
                  <a:pt x="1093715" y="6711917"/>
                  <a:pt x="1100209" y="6755640"/>
                </a:cubicBezTo>
                <a:lnTo>
                  <a:pt x="848624" y="8104720"/>
                </a:lnTo>
                <a:lnTo>
                  <a:pt x="17782" y="7974865"/>
                </a:lnTo>
                <a:cubicBezTo>
                  <a:pt x="11855" y="5494377"/>
                  <a:pt x="5927" y="3013888"/>
                  <a:pt x="0" y="533400"/>
                </a:cubicBezTo>
                <a:cubicBezTo>
                  <a:pt x="0" y="391933"/>
                  <a:pt x="56198" y="256261"/>
                  <a:pt x="156230" y="156229"/>
                </a:cubicBezTo>
                <a:cubicBezTo>
                  <a:pt x="256262" y="56197"/>
                  <a:pt x="391935" y="0"/>
                  <a:pt x="533401" y="0"/>
                </a:cubicBezTo>
                <a:lnTo>
                  <a:pt x="533400" y="0"/>
                </a:lnTo>
                <a:close/>
              </a:path>
            </a:pathLst>
          </a:cu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93577" y="8811781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2"/>
          <p:cNvGrpSpPr/>
          <p:nvPr/>
        </p:nvGrpSpPr>
        <p:grpSpPr>
          <a:xfrm>
            <a:off x="2741400" y="-1206000"/>
            <a:ext cx="4668840" cy="2958480"/>
            <a:chOff x="2741400" y="-1206000"/>
            <a:chExt cx="4668840" cy="295848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30"/>
            <p:cNvGrpSpPr/>
            <p:nvPr/>
          </p:nvGrpSpPr>
          <p:grpSpPr>
            <a:xfrm>
              <a:off x="2741400" y="-932040"/>
              <a:ext cx="2014560" cy="1892160"/>
              <a:chOff x="2741400" y="-932040"/>
              <a:chExt cx="2014560" cy="189216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2560" y="-834840"/>
                <a:ext cx="1452240" cy="1671840"/>
              </a:xfrm>
              <a:custGeom>
                <a:avLst/>
                <a:gdLst/>
                <a:ahLst/>
                <a:rect l="l" t="t" r="r" b="b"/>
                <a:pathLst>
                  <a:path stroke="0" w="1452860" h="1671082">
                    <a:moveTo>
                      <a:pt x="485387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6"/>
                      <a:pt x="1485941" y="744670"/>
                      <a:pt x="1436949" y="1009462"/>
                    </a:cubicBezTo>
                    <a:cubicBezTo>
                      <a:pt x="1383038" y="1300836"/>
                      <a:pt x="1198329" y="1537157"/>
                      <a:pt x="952153" y="1629722"/>
                    </a:cubicBezTo>
                    <a:lnTo>
                      <a:pt x="726430" y="835541"/>
                    </a:lnTo>
                    <a:lnTo>
                      <a:pt x="485387" y="47339"/>
                    </a:lnTo>
                    <a:close/>
                  </a:path>
                  <a:path fill="none" w="1452860" h="1671082">
                    <a:moveTo>
                      <a:pt x="485387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6"/>
                      <a:pt x="1485941" y="744670"/>
                      <a:pt x="1436949" y="1009462"/>
                    </a:cubicBezTo>
                    <a:cubicBezTo>
                      <a:pt x="1383038" y="1300836"/>
                      <a:pt x="1198329" y="1537157"/>
                      <a:pt x="952153" y="162972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7680" y="317520"/>
                <a:ext cx="757440" cy="64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1080" y="15696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9"/>
            <p:cNvGrpSpPr/>
            <p:nvPr/>
          </p:nvGrpSpPr>
          <p:grpSpPr>
            <a:xfrm>
              <a:off x="3217680" y="-1206000"/>
              <a:ext cx="4192560" cy="2355840"/>
              <a:chOff x="3217680" y="-1206000"/>
              <a:chExt cx="4192560" cy="235584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8320" y="-776160"/>
                <a:ext cx="3198240" cy="1521000"/>
              </a:xfrm>
              <a:custGeom>
                <a:avLst/>
                <a:gdLst/>
                <a:ahLst/>
                <a:rect l="l" t="t" r="r" b="b"/>
                <a:pathLst>
                  <a:path w="3504392" h="1521138">
                    <a:moveTo>
                      <a:pt x="3504186" y="772227"/>
                    </a:moveTo>
                    <a:cubicBezTo>
                      <a:pt x="3489508" y="1187854"/>
                      <a:pt x="2708818" y="1521378"/>
                      <a:pt x="1751186" y="1521138"/>
                    </a:cubicBezTo>
                    <a:cubicBezTo>
                      <a:pt x="790164" y="1520898"/>
                      <a:pt x="8924" y="1184702"/>
                      <a:pt x="74" y="767573"/>
                    </a:cubicBezTo>
                    <a:lnTo>
                      <a:pt x="1752196" y="760569"/>
                    </a:lnTo>
                    <a:lnTo>
                      <a:pt x="3504186" y="77222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5760" y="13032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1600" y="-188280"/>
                <a:ext cx="1033560" cy="830160"/>
              </a:xfrm>
              <a:custGeom>
                <a:avLst/>
                <a:gdLst/>
                <a:ahLst/>
                <a:rect l="l" t="t" r="r" b="b"/>
                <a:pathLst>
                  <a:path stroke="0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  <a:lnTo>
                      <a:pt x="566376" y="415217"/>
                    </a:lnTo>
                    <a:lnTo>
                      <a:pt x="4023" y="365817"/>
                    </a:lnTo>
                    <a:close/>
                  </a:path>
                  <a:path fill="none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2360" y="-961560"/>
                <a:ext cx="1905120" cy="1867320"/>
              </a:xfrm>
              <a:custGeom>
                <a:avLst/>
                <a:gdLst/>
                <a:ahLst/>
                <a:rect l="l" t="t" r="r" b="b"/>
                <a:pathLst>
                  <a:path stroke="0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  <a:lnTo>
                      <a:pt x="952695" y="1023130"/>
                    </a:lnTo>
                    <a:lnTo>
                      <a:pt x="673195" y="45021"/>
                    </a:lnTo>
                    <a:close/>
                  </a:path>
                  <a:path fill="none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4600"/>
              <a:ext cx="182520" cy="228600"/>
            </a:xfrm>
            <a:custGeom>
              <a:avLst/>
              <a:gdLst/>
              <a:ahLst/>
              <a:rect l="l" t="t" r="r" b="b"/>
              <a:pathLst>
                <a:path w="182600" h="228524">
                  <a:moveTo>
                    <a:pt x="162627" y="185589"/>
                  </a:moveTo>
                  <a:cubicBezTo>
                    <a:pt x="132224" y="233208"/>
                    <a:pt x="77306" y="242576"/>
                    <a:pt x="37829" y="206878"/>
                  </a:cubicBezTo>
                  <a:cubicBezTo>
                    <a:pt x="8491" y="180349"/>
                    <a:pt x="-5554" y="134635"/>
                    <a:pt x="2024" y="90341"/>
                  </a:cubicBezTo>
                  <a:cubicBezTo>
                    <a:pt x="11038" y="37649"/>
                    <a:pt x="48243" y="1"/>
                    <a:pt x="91301" y="1"/>
                  </a:cubicBezTo>
                  <a:lnTo>
                    <a:pt x="162627" y="1855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custGeom>
            <a:avLst/>
            <a:gdLst/>
            <a:ahLst/>
            <a:rect l="l" t="t" r="r" b="b"/>
            <a:pathLst>
              <a:path w="809625" h="2606675">
                <a:moveTo>
                  <a:pt x="404813" y="0"/>
                </a:moveTo>
                <a:lnTo>
                  <a:pt x="404813" y="0"/>
                </a:lnTo>
                <a:cubicBezTo>
                  <a:pt x="628385" y="0"/>
                  <a:pt x="809626" y="181241"/>
                  <a:pt x="809626" y="404813"/>
                </a:cubicBezTo>
                <a:cubicBezTo>
                  <a:pt x="809626" y="1138767"/>
                  <a:pt x="809625" y="1872721"/>
                  <a:pt x="809625" y="2606675"/>
                </a:cubicBezTo>
                <a:lnTo>
                  <a:pt x="809625" y="2606675"/>
                </a:lnTo>
                <a:lnTo>
                  <a:pt x="0" y="2606675"/>
                </a:lnTo>
                <a:lnTo>
                  <a:pt x="0" y="2606675"/>
                </a:lnTo>
                <a:lnTo>
                  <a:pt x="0" y="404813"/>
                </a:lnTo>
                <a:cubicBezTo>
                  <a:pt x="0" y="181241"/>
                  <a:pt x="181241" y="0"/>
                  <a:pt x="404813" y="0"/>
                </a:cubicBezTo>
                <a:close/>
              </a:path>
            </a:pathLst>
          </a:cu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custGeom>
            <a:avLst/>
            <a:gdLst/>
            <a:ahLst/>
            <a:rect l="l" t="t" r="r" b="b"/>
            <a:pathLst>
              <a:path w="778667" h="2512599">
                <a:moveTo>
                  <a:pt x="0" y="2357093"/>
                </a:moveTo>
                <a:lnTo>
                  <a:pt x="19377" y="370199"/>
                </a:lnTo>
                <a:cubicBezTo>
                  <a:pt x="19377" y="272016"/>
                  <a:pt x="58380" y="177855"/>
                  <a:pt x="127806" y="108429"/>
                </a:cubicBezTo>
                <a:cubicBezTo>
                  <a:pt x="197232" y="39003"/>
                  <a:pt x="291394" y="0"/>
                  <a:pt x="389576" y="1"/>
                </a:cubicBezTo>
                <a:lnTo>
                  <a:pt x="389576" y="0"/>
                </a:lnTo>
                <a:lnTo>
                  <a:pt x="389576" y="0"/>
                </a:lnTo>
                <a:cubicBezTo>
                  <a:pt x="487759" y="0"/>
                  <a:pt x="581920" y="39003"/>
                  <a:pt x="651346" y="108429"/>
                </a:cubicBezTo>
                <a:cubicBezTo>
                  <a:pt x="720772" y="177855"/>
                  <a:pt x="759775" y="272017"/>
                  <a:pt x="759774" y="370199"/>
                </a:cubicBezTo>
                <a:cubicBezTo>
                  <a:pt x="778667" y="770894"/>
                  <a:pt x="763675" y="2066266"/>
                  <a:pt x="764702" y="2512599"/>
                </a:cubicBezTo>
              </a:path>
            </a:pathLst>
          </a:custGeom>
          <a:solidFill>
            <a:srgbClr val="073779"/>
          </a:solidFill>
          <a:ln w="12708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custGeom>
            <a:avLst/>
            <a:gdLst/>
            <a:ahLst/>
            <a:rect l="l" t="t" r="r" b="b"/>
            <a:pathLst>
              <a:path w="459179" h="1462129">
                <a:moveTo>
                  <a:pt x="0" y="1379079"/>
                </a:moveTo>
                <a:lnTo>
                  <a:pt x="597" y="229291"/>
                </a:lnTo>
                <a:cubicBezTo>
                  <a:pt x="597" y="168479"/>
                  <a:pt x="24755" y="110158"/>
                  <a:pt x="67755" y="67158"/>
                </a:cubicBezTo>
                <a:cubicBezTo>
                  <a:pt x="110755" y="24158"/>
                  <a:pt x="169077" y="0"/>
                  <a:pt x="229888" y="0"/>
                </a:cubicBezTo>
                <a:lnTo>
                  <a:pt x="229888" y="0"/>
                </a:lnTo>
                <a:cubicBezTo>
                  <a:pt x="290700" y="0"/>
                  <a:pt x="349021" y="24158"/>
                  <a:pt x="392021" y="67158"/>
                </a:cubicBezTo>
                <a:cubicBezTo>
                  <a:pt x="435021" y="110158"/>
                  <a:pt x="459179" y="168480"/>
                  <a:pt x="459179" y="229291"/>
                </a:cubicBezTo>
                <a:lnTo>
                  <a:pt x="448070" y="1462129"/>
                </a:lnTo>
              </a:path>
            </a:pathLst>
          </a:custGeom>
          <a:solidFill>
            <a:srgbClr val="073779"/>
          </a:solidFill>
          <a:ln w="6336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4E6C5-E515-4D37-B054-6E0132B086C9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AF086-A6C7-4E01-82AA-AAB2936FF1A4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3196C-C3EF-41E0-98CF-71EE709D4F33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A7C34-A9A5-4561-8EAC-025EE64F15C4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E951E-5C65-4CBF-8401-9E52E09D4AD5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61549-5676-4E1B-8470-B17740F82557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A1764-22C3-4288-9B51-71C9206367D4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36203-E72B-4494-9D2F-1332DA3C773D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 rot="21042000">
            <a:off x="1510920" y="280836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Literary Term: Allusion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2550960" y="4705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aylor Swift “Love Song” Allusi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at you were Romeo,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   you were throwing pebbl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d my daddy said stay away from Julie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d I was crying on the stairca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egging you please don't go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Explanation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Romeo was a character in Shakespeare’s play, </a:t>
            </a:r>
            <a:r>
              <a:rPr b="0" i="1" lang="en-US" sz="4000" spc="-1" strike="noStrike">
                <a:solidFill>
                  <a:srgbClr val="ffffff"/>
                </a:solidFill>
                <a:latin typeface="Arial Rounded MT Bold"/>
              </a:rPr>
              <a:t>Romeo and Juliet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, and was very romantic in expressing his love for Juliet. 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 Exampl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'Christy didn't like to spend money. She was no Scrooge, but she seldom purchased anything except the bare necessities'.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Explanation 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is is a popular allusion to Scrooge, the famous penny-pinching character of Charles Dickens' classic </a:t>
            </a:r>
            <a:r>
              <a:rPr b="0" i="1" lang="en-US" sz="3600" spc="-1" strike="noStrike">
                <a:solidFill>
                  <a:srgbClr val="ffffff"/>
                </a:solidFill>
                <a:latin typeface="Arial Rounded MT Bold"/>
              </a:rPr>
              <a:t>A Christmas Carol.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12800" y="1261800"/>
            <a:ext cx="771696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Find the Allusion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609120" y="2895480"/>
            <a:ext cx="782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e day was young and I was looking forward to the afternoon. I was supposed to go out on a date, but my plans were changed. All my siblings were gone, but I had been in the house slaving like Cinderella, scrubbing the floors on my hands and knees, washing clothes and dishes and making everyone's beds.”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12800" y="4800600"/>
            <a:ext cx="771696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Rounded MT Bold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51" name="Picture 8" descr="450px-Blue_question_mark.svg-1.png"/>
          <p:cNvPicPr/>
          <p:nvPr/>
        </p:nvPicPr>
        <p:blipFill>
          <a:blip r:embed="rId1"/>
          <a:stretch/>
        </p:blipFill>
        <p:spPr>
          <a:xfrm rot="336600">
            <a:off x="898560" y="1317240"/>
            <a:ext cx="1871640" cy="1873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9" descr="450px-Blue_question_mark.svg-1.png"/>
          <p:cNvPicPr/>
          <p:nvPr/>
        </p:nvPicPr>
        <p:blipFill>
          <a:blip r:embed="rId2"/>
          <a:stretch/>
        </p:blipFill>
        <p:spPr>
          <a:xfrm rot="1632000">
            <a:off x="7094160" y="23616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0" descr="450px-Blue_question_mark.svg-1.png"/>
          <p:cNvPicPr/>
          <p:nvPr/>
        </p:nvPicPr>
        <p:blipFill>
          <a:blip r:embed="rId3"/>
          <a:stretch/>
        </p:blipFill>
        <p:spPr>
          <a:xfrm>
            <a:off x="4025880" y="914400"/>
            <a:ext cx="2832120" cy="28321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1" descr="450px-Blue_question_mark.svg-1.png"/>
          <p:cNvPicPr/>
          <p:nvPr/>
        </p:nvPicPr>
        <p:blipFill>
          <a:blip r:embed="rId4"/>
          <a:stretch/>
        </p:blipFill>
        <p:spPr>
          <a:xfrm rot="20978400">
            <a:off x="3009600" y="2730600"/>
            <a:ext cx="1015920" cy="1015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2" descr="450px-Blue_question_mark.svg-1.png"/>
          <p:cNvPicPr/>
          <p:nvPr/>
        </p:nvPicPr>
        <p:blipFill>
          <a:blip r:embed="rId5"/>
          <a:stretch/>
        </p:blipFill>
        <p:spPr>
          <a:xfrm rot="972600">
            <a:off x="7910280" y="263052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3" descr="450px-Blue_question_mark.svg-1.png"/>
          <p:cNvPicPr/>
          <p:nvPr/>
        </p:nvPicPr>
        <p:blipFill>
          <a:blip r:embed="rId6"/>
          <a:stretch/>
        </p:blipFill>
        <p:spPr>
          <a:xfrm>
            <a:off x="244440" y="214164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712800" y="5105160"/>
            <a:ext cx="7718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712800" y="4404240"/>
            <a:ext cx="77169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Definition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 allusion is a reference to an artifact, be it a person, place, thing, event, or quote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t must be a well known and identified by a large group of people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t is often a proper noun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 Definition….cont’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712800" y="2935440"/>
            <a:ext cx="771696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s reference is probably explicit, but its meaning can be understood only if the person, place, or event is well known by all or known by the reader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 allusion can help the reader develop their understanding of the theme of the book, or bring up a new theme based on that small reference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Purpos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We, as readers, need to know what allusions are so we can identify them in our reading. 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12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We need to be able to recognize allusions in the books we read because they are usually important in our overall understanding of the book. 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Purpose.....cont’  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 Rounded MT Bold"/>
              </a:rPr>
              <a:t>For example, if the name of a character was an allusion to a different  character in another literary work, that similarity could reveal something about the character that we wouldn’t have known if we hadn’t found the allusion. </a:t>
            </a:r>
            <a:endParaRPr b="0" lang="en-US" sz="31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s also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ncrease the audience’s bond with the author, as the author and the audience become/are part of a select group who understand the allusion.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s 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ommonly Made to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Bibl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ursery rhyme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yth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amous fictional or historical characters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iteratur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s Have the Following Effects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y stir up feelings in the reader by just taking up a minimal amount of space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 other words, they do the work so the author doesn’t have to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y train the audience--the audience must figure out and understand the original source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 Exampl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 was surprised his nose was not growing like Pinocchio’s.”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is refers to the story of Pinocchio, where his nose grew whenever he told a lie.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3:53:21Z</dcterms:created>
  <dc:creator>Kevin Jeffery</dc:creator>
  <dc:description/>
  <dc:language>en-US</dc:language>
  <cp:lastModifiedBy> </cp:lastModifiedBy>
  <cp:lastPrinted>2012-09-14T16:22:27Z</cp:lastPrinted>
  <dcterms:modified xsi:type="dcterms:W3CDTF">2012-09-14T16:22:37Z</dcterms:modified>
  <cp:revision>19</cp:revision>
  <dc:subject/>
  <dc:title>Literary Term: Allusion</dc:title>
</cp:coreProperties>
</file>